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DFB-66A5-4F5A-8856-8EB992BD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9D7-D5B5-4A86-8DE7-49771402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51F-0B13-4DEB-A0D8-37B8BC30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855-6930-404E-9E8C-9E63FC37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4ED-9D93-400E-BAC7-8C046AF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DC0-2FA8-4BA6-87CF-B505E3E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303-7AD6-4E65-B6FA-8FFC261E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96F-13DE-46E1-A8D9-0373612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E3D-775D-499D-89F7-7C0AB17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F4E-BD79-40DA-82E7-AED125DD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E06-3E64-4D18-B4F5-5B74D6B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99D-EDD0-4B06-84E4-8253E1BD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1CE-2F17-48CF-8EA3-C35AC42FB5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Periodic Table</a:t>
            </a:r>
            <a:br>
              <a:rPr sz="8000"/>
            </a:b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of the </a:t>
            </a:r>
            <a:br>
              <a:rPr sz="8000"/>
            </a:b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Elements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j0213032.wav" descr=""/>
          <p:cNvPicPr/>
          <p:nvPr/>
        </p:nvPicPr>
        <p:blipFill>
          <a:blip r:embed="rId1"/>
          <a:stretch/>
        </p:blipFill>
        <p:spPr>
          <a:xfrm>
            <a:off x="7924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1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914400"/>
            <a:ext cx="8305920" cy="556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7772400" y="990720"/>
            <a:ext cx="38088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715000" y="0"/>
            <a:ext cx="20574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s of the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838080" y="2590920"/>
            <a:ext cx="6934320" cy="1523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838080" y="4114800"/>
            <a:ext cx="533412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676520" y="5105520"/>
            <a:ext cx="56386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715000" y="1523880"/>
            <a:ext cx="2057400" cy="1067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14400" y="990720"/>
            <a:ext cx="380880" cy="1600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95280" y="1523880"/>
            <a:ext cx="457200" cy="1067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334120" y="1522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71629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838080"/>
            <a:ext cx="8305920" cy="5639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14400" y="1143000"/>
            <a:ext cx="457200" cy="3657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371600" y="1600200"/>
            <a:ext cx="38088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52480" y="2666880"/>
            <a:ext cx="403884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715000" y="1676520"/>
            <a:ext cx="45720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172200" y="1676520"/>
            <a:ext cx="1600200" cy="2666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772400" y="1066680"/>
            <a:ext cx="53352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867280" y="0"/>
            <a:ext cx="18288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re Earth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7543800" y="50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eriodic Table - modern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105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838080" y="1371600"/>
            <a:ext cx="4572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95280" y="1752480"/>
            <a:ext cx="457200" cy="2819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752480" y="2743200"/>
            <a:ext cx="3812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133720" y="2666880"/>
            <a:ext cx="3581280" cy="1905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15000" y="1752480"/>
            <a:ext cx="457200" cy="2819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172200" y="1752480"/>
            <a:ext cx="1600200" cy="2362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7772400" y="1371600"/>
            <a:ext cx="457200" cy="2743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2"/>
          <p:cNvSpPr/>
          <p:nvPr/>
        </p:nvSpPr>
        <p:spPr>
          <a:xfrm flipV="1">
            <a:off x="1676520" y="4875840"/>
            <a:ext cx="563868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248520" y="228600"/>
            <a:ext cx="16002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re Earth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90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83808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838080" y="1143000"/>
            <a:ext cx="609840" cy="3657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47920" y="1676520"/>
            <a:ext cx="30456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715000" y="1676520"/>
            <a:ext cx="53352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72200" y="1676520"/>
            <a:ext cx="1600200" cy="2590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772400" y="1143000"/>
            <a:ext cx="53352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76520" y="5257800"/>
            <a:ext cx="579096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772400" y="51055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772400" y="51814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248520" y="0"/>
            <a:ext cx="14475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914400"/>
            <a:ext cx="8305920" cy="5562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914400" y="990720"/>
            <a:ext cx="457200" cy="3809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95280" y="1600200"/>
            <a:ext cx="45720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752480" y="2666880"/>
            <a:ext cx="403884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715000" y="1600200"/>
            <a:ext cx="53352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248520" y="1676520"/>
            <a:ext cx="1066680" cy="2590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772400" y="1066680"/>
            <a:ext cx="380880" cy="3124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676520" y="5105520"/>
            <a:ext cx="56386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562720" y="0"/>
            <a:ext cx="2361960" cy="67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oge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alt form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924680" y="50292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1676520" y="5105520"/>
            <a:ext cx="571500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295280" y="1523880"/>
            <a:ext cx="457200" cy="3124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752480" y="2514600"/>
            <a:ext cx="4038840" cy="2133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715000" y="1523880"/>
            <a:ext cx="533520" cy="3124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172200" y="1523880"/>
            <a:ext cx="1676520" cy="2667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772400" y="990720"/>
            <a:ext cx="38088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248520" y="228600"/>
            <a:ext cx="16002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772400" y="50292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914400" y="990720"/>
            <a:ext cx="380880" cy="533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eriodic Table - modern"/>
          <p:cNvPicPr/>
          <p:nvPr/>
        </p:nvPicPr>
        <p:blipFill>
          <a:blip r:embed="rId2"/>
          <a:stretch/>
        </p:blipFill>
        <p:spPr>
          <a:xfrm>
            <a:off x="609480" y="83808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1066680" y="1143000"/>
            <a:ext cx="381240" cy="3733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905120" y="2666880"/>
            <a:ext cx="3962160" cy="2133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828800" y="5257800"/>
            <a:ext cx="56386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67280" y="1676520"/>
            <a:ext cx="45720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324480" y="1676520"/>
            <a:ext cx="1600200" cy="2666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7924680" y="1143000"/>
            <a:ext cx="38124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486400" y="152280"/>
            <a:ext cx="3048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696080" y="48769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7 Most Common Elements in Na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6 Most Abundant Elements in Human Bod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vented by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mendeleev"/>
          <p:cNvPicPr/>
          <p:nvPr/>
        </p:nvPicPr>
        <p:blipFill>
          <a:blip r:embed="rId1"/>
          <a:stretch/>
        </p:blipFill>
        <p:spPr>
          <a:xfrm>
            <a:off x="3200400" y="1523880"/>
            <a:ext cx="3276720" cy="2392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124080" y="45720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6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he Human B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distill down the human body to its elements, the elements are worth about $2.00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pound, the cost would be $168.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MSj03882560000[1].wav" descr=""/>
          <p:cNvPicPr/>
          <p:nvPr/>
        </p:nvPicPr>
        <p:blipFill>
          <a:blip r:embed="rId1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MSj04310550000[1].wav" descr=""/>
          <p:cNvPicPr/>
          <p:nvPr/>
        </p:nvPicPr>
        <p:blipFill>
          <a:blip r:embed="rId2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MSj04310680000[1].wav" descr=""/>
          <p:cNvPicPr/>
          <p:nvPr/>
        </p:nvPicPr>
        <p:blipFill>
          <a:blip r:embed="rId3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1274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872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500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ahoma"/>
              </a:rPr>
              <a:t>Time to Practice!!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421160"/>
            <a:ext cx="640080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y, Set,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MSj03886260000[1].wav" descr=""/>
          <p:cNvPicPr/>
          <p:nvPr/>
        </p:nvPicPr>
        <p:blipFill>
          <a:blip r:embed="rId1"/>
          <a:stretch/>
        </p:blipFill>
        <p:spPr>
          <a:xfrm>
            <a:off x="80773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MSj04310720000[1].wav" descr=""/>
          <p:cNvPicPr/>
          <p:nvPr/>
        </p:nvPicPr>
        <p:blipFill>
          <a:blip r:embed="rId2"/>
          <a:stretch/>
        </p:blipFill>
        <p:spPr>
          <a:xfrm>
            <a:off x="80773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165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019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endeleev noticed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elements were being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hing was being organiz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began to organize the elements, a pattern started to app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blank spaces where he thought other elements would someday be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pattern, he could predict properties of undiscovered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endeleev’s First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360" y="1980720"/>
            <a:ext cx="4647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Mendeleev's 1st table"/>
          <p:cNvPicPr/>
          <p:nvPr/>
        </p:nvPicPr>
        <p:blipFill>
          <a:blip r:embed="rId1"/>
          <a:stretch/>
        </p:blipFill>
        <p:spPr>
          <a:xfrm>
            <a:off x="2133720" y="1981080"/>
            <a:ext cx="4952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endeleev’s Finished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table1869-reprint Mendeleev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3505320"/>
          </a:xfrm>
          <a:prstGeom prst="rect">
            <a:avLst/>
          </a:prstGeom>
          <a:ln w="0">
            <a:noFill/>
          </a:ln>
        </p:spPr>
      </p:pic>
      <p:pic>
        <p:nvPicPr>
          <p:cNvPr id="54" name="MSj04310730000[1].wav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MSj04310540000[1].wav" descr=""/>
          <p:cNvPicPr/>
          <p:nvPr/>
        </p:nvPicPr>
        <p:blipFill>
          <a:blip r:embed="rId3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01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183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1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djusted Periodic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nry G. J. Mose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ng English Scient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ranged table using atomic numbers instead of atomic m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table still uses his arra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0080" y="1980720"/>
            <a:ext cx="274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Moseley"/>
          <p:cNvPicPr/>
          <p:nvPr/>
        </p:nvPicPr>
        <p:blipFill>
          <a:blip r:embed="rId1"/>
          <a:stretch/>
        </p:blipFill>
        <p:spPr>
          <a:xfrm>
            <a:off x="5410080" y="19051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odern Periodic Table of the Ele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Periodic Table - modern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MSj04310590000[1].wav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MSj04310770000[1].wav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884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811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Chart Information Approved By Two Group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Union of Pure and Applied Chemistry  (IUPA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Chemical Society  (A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bout the Periodic Tabl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s the elements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named by their discover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s for each elemen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means “repeated in a patter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means “kind of char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0:09:38Z</dcterms:created>
  <dc:creator>SCSCHOOLS</dc:creator>
  <dc:description/>
  <dc:language>en-US</dc:language>
  <cp:lastModifiedBy>WILMESHERR JR, RICHARD</cp:lastModifiedBy>
  <dcterms:modified xsi:type="dcterms:W3CDTF">2012-12-06T13:42:05Z</dcterms:modified>
  <cp:revision>18</cp:revision>
  <dc:subject/>
  <dc:title>Periodic Table of the Elements</dc:title>
</cp:coreProperties>
</file>